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A70-3E9D-4FD2-8031-1B1A6A23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997-89CF-4464-8381-E058E505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E4F-7C0D-44BE-9451-54F498E0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94F-B5CD-4ADA-B5FD-D571F09D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A153-6D40-49C8-8A77-AD17AA35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BD99-D5AE-4A58-B19D-1E4C4292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F3FE-3A17-4427-B49B-A68DD9BD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2727-EC20-4731-B424-AFAA9480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44E6-47DB-44BA-B3B1-04B8B006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0A84-81F1-454A-9FE0-2CB08CAF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39F3-8CAD-4D69-9530-C17C3720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609-1CC9-41FE-8D99-A239FF3F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C2FC-EA52-4BCA-B39E-569BB792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CC1C-EC56-40FE-A863-958249C6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F96E-A157-4DCF-919D-5AC8389E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89EC-D696-4DEF-8A09-188CF1A4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6CB4-0879-435B-982E-8124ED6E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CA1-774A-4C36-B45B-9941E550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CBF-6D5A-4E2D-A62B-917EE4E9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600-FC12-44F2-AE2D-743A0D56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89D-9540-4ED2-92CF-ABD156F6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2C3-734E-437E-AE35-C04E0A72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261-6654-4E84-9E23-D5955982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21E-6B04-4913-9DBE-0702D1F5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0754-D175-49AD-83D5-6AE2A5B501B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9F0C-4DE0-4C23-9D8A-5BB90F9E153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l Numbe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774960" y="2739960"/>
          <a:ext cx="1592280" cy="259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74960" y="2739960"/>
                    <a:ext cx="159228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atur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-1252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atur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0.45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-4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352680" y="2514600"/>
          <a:ext cx="2319480" cy="23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2514600"/>
                    <a:ext cx="231948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r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1.75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76720" y="2514600"/>
          <a:ext cx="2547720" cy="226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2514600"/>
                    <a:ext cx="254772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-19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ahoma"/>
              </a:rPr>
              <a:t>1.23178…</a:t>
            </a:r>
            <a:endParaRPr b="0" lang="en-US" sz="1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r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27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atur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00400" y="2590920"/>
          <a:ext cx="2624040" cy="234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590920"/>
                    <a:ext cx="262404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r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2.48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-24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819520" y="2365200"/>
          <a:ext cx="2819160" cy="252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365200"/>
                    <a:ext cx="2819160" cy="25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r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ahoma"/>
              </a:rPr>
              <a:t>512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Natur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ho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390840" y="1981080"/>
          <a:ext cx="114480" cy="16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0840" y="1981080"/>
                    <a:ext cx="1144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809880" y="2057400"/>
          <a:ext cx="1416240" cy="365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057400"/>
                    <a:ext cx="1416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atio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Re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2:36:57Z</dcterms:created>
  <dc:creator>Parkland High School</dc:creator>
  <dc:description/>
  <dc:language>en-US</dc:language>
  <cp:lastModifiedBy>Parkland High School</cp:lastModifiedBy>
  <dcterms:modified xsi:type="dcterms:W3CDTF">2010-09-28T12:57:49Z</dcterms:modified>
  <cp:revision>1</cp:revision>
  <dc:subject/>
  <dc:title>Real Numbers </dc:title>
</cp:coreProperties>
</file>